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300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316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Frutiger 55 Roman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7520" y="4766760"/>
            <a:ext cx="542916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0860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3000" y="940860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5E22-E2B5-4E83-9453-9BE8F160EE2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352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7520" y="4766760"/>
            <a:ext cx="5429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Esimese taseme tuge pakume meie. Kui on tõsisemaid probleeme siis pöördume EIOPA po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Valideerimisreeglid on süsteemi sisse ehitat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aidinumbri kohatäide 3"/>
          <p:cNvSpPr/>
          <p:nvPr/>
        </p:nvSpPr>
        <p:spPr>
          <a:xfrm>
            <a:off x="3843360" y="940896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BFD-43D5-44EB-B01D-AD6FDC62F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352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4766760"/>
            <a:ext cx="5429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XBRL on XML keelel baseeruv avatud standard, mis on spetsiaalselt välja töötatud rahuldamaks finantsinformatsiooni edastamise ja esitamise vajadu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asutusel erinevad XML tehnoloog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sneb kahest os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XBRL taksonoomia ja XBRL in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Taksonoomiaga kirjeldatakse aruannete struktuur ja valideerimise reeg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Erinevalt XML skeemist on XBRL taksonoomiasse sisse ehitatud aruannete presenteerimise funktsionaalsus. Võimeline näitama xbrl faili inimlikul kuj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Taksonoomia lgenereeritakse DPM mudeli alusel automaats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aidinumbri kohatäide 3"/>
          <p:cNvSpPr/>
          <p:nvPr/>
        </p:nvSpPr>
        <p:spPr>
          <a:xfrm>
            <a:off x="3843360" y="940896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91A-201E-4ECE-8905-16A0CA665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352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83920" y="4737240"/>
            <a:ext cx="54291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aidinumbri kohatäide 3"/>
          <p:cNvSpPr/>
          <p:nvPr/>
        </p:nvSpPr>
        <p:spPr>
          <a:xfrm>
            <a:off x="3843360" y="940896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914-5275-426A-BA53-7548D5E62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352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7520" y="4766760"/>
            <a:ext cx="542916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aidinumbri kohatäide 3"/>
          <p:cNvSpPr/>
          <p:nvPr/>
        </p:nvSpPr>
        <p:spPr>
          <a:xfrm>
            <a:off x="3843360" y="940896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3CC-43C9-4B5C-8F39-FF8824E00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8920" y="362988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224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804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716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92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804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716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8560" y="255600"/>
            <a:ext cx="846108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224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8920" y="362988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224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804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7160" y="109224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892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804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7160" y="3629880"/>
            <a:ext cx="2722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8560" y="255600"/>
            <a:ext cx="846108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2240" y="362988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892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240" y="1092240"/>
            <a:ext cx="41266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8920" y="3629880"/>
            <a:ext cx="84564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3" marL="1600200" indent="-228600">
              <a:spcBef>
                <a:spcPts val="700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6a7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Frutiger 55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33"/>
          <p:cNvSpPr/>
          <p:nvPr/>
        </p:nvSpPr>
        <p:spPr>
          <a:xfrm>
            <a:off x="2824200" y="2008080"/>
            <a:ext cx="48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034"/>
          <p:cNvSpPr/>
          <p:nvPr/>
        </p:nvSpPr>
        <p:spPr>
          <a:xfrm>
            <a:off x="900000" y="2708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3" marL="1600200" indent="-228600">
              <a:spcBef>
                <a:spcPts val="700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Frutiger 55 Roman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Frutiger 55 Roma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4u.eurofiling.info/" TargetMode="External"/><Relationship Id="rId2" Type="http://schemas.openxmlformats.org/officeDocument/2006/relationships/hyperlink" Target="http://arell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ba.europa.eu/regulation-and-policy/supervisory-reporting/implementing-technical-standard-on-supervisory-reporting-data-point-model-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95640" y="4941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Frutiger 55 Roman"/>
              </a:rPr>
              <a:t>Erkko Kõrg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XBRL ülesehitus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Mooduli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COREP_Ind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COREP_LCR_Ind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COREP_LE_Con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COREP_NSFR_Con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FINREP_Con_IFRS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de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2" marL="743040" indent="-343080">
              <a:spcBef>
                <a:spcPts val="49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4d4d4d"/>
                </a:solidFill>
                <a:latin typeface="Frutiger 55 Roman"/>
              </a:rPr>
              <a:t>Filingindicators</a:t>
            </a:r>
            <a:endParaRPr b="0" lang="en-US" sz="2000" spc="-1" strike="noStrike">
              <a:solidFill>
                <a:srgbClr val="4d4d4d"/>
              </a:solidFill>
              <a:latin typeface="Frutiger 55 Roman"/>
            </a:endParaRPr>
          </a:p>
          <a:p>
            <a:pPr lvl="2" marL="743040" indent="-343080">
              <a:spcBef>
                <a:spcPts val="49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Filingindicator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d4d4d"/>
                </a:solidFill>
                <a:latin typeface="Frutiger 55 Roman"/>
              </a:rPr>
              <a:t>&lt;find:fIndicators&gt;</a:t>
            </a:r>
            <a:br>
              <a:rPr sz="1800"/>
            </a:b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&lt;find:filingIndicator contextRef="c0"&gt;F_00.01&lt;/find:filingIndicator&gt;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&lt;find:filingIndicator contextRef="c0"&gt;F_01.01&lt;/find:filingIndicator&gt;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&lt;find:filingIndicator contextRef="c0"&gt;F_01.02&lt;/find:filingIndicator&gt;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&lt;find:filingIndicator contextRef="c0"&gt;F_01.03&lt;/find:filingIndicator&gt;</a:t>
            </a:r>
            <a:br>
              <a:rPr sz="1400"/>
            </a:b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….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Filing rules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Täiendavad reeglid, mida ei saa kirjeldada XBRL taksonoomiates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Frutiger 55 Roman"/>
              </a:rPr>
              <a:t>1.6.1 — Multiple filing indicators for the same reporting unit</a:t>
            </a:r>
            <a:r>
              <a:rPr b="1" i="1" lang="en-GB" sz="2000" spc="-1" strike="noStrike">
                <a:solidFill>
                  <a:srgbClr val="4d4d4d"/>
                </a:solidFill>
                <a:latin typeface="Frutiger 55 Roman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Frutiger 55 Roman"/>
            </a:endParaRPr>
          </a:p>
          <a:p>
            <a:pPr lvl="3" marL="1600200" indent="-228600">
              <a:spcBef>
                <a:spcPts val="45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Frutiger 55 Roman"/>
              </a:rPr>
              <a:t>Reported XBRL instances MUST contain only one filing indicator element for a given reporting unit (“template”).</a:t>
            </a:r>
            <a:endParaRPr b="0" lang="en-US" sz="1800" spc="-1" strike="noStrike">
              <a:solidFill>
                <a:srgbClr val="4d4d4d"/>
              </a:solidFill>
              <a:latin typeface="Frutiger 55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90000"/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Frutiger 55 Roman"/>
              </a:rPr>
              <a:t>2.13 — XBRL period consistency</a:t>
            </a:r>
            <a:endParaRPr b="0" lang="en-US" sz="2000" spc="-1" strike="noStrike">
              <a:solidFill>
                <a:srgbClr val="4d4d4d"/>
              </a:solidFill>
              <a:latin typeface="Frutiger 55 Roman"/>
            </a:endParaRPr>
          </a:p>
          <a:p>
            <a:pPr lvl="3" marL="1600200" indent="-228600">
              <a:spcBef>
                <a:spcPts val="45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Frutiger 55 Roman"/>
              </a:rPr>
              <a:t>All xbrl periods in a report instance MUST refer to the (same) reference date instant. All xbrl periods MUST be instants. </a:t>
            </a:r>
            <a:endParaRPr b="0" lang="en-US" sz="1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EIOPA ja EBA reeglid erineva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Validation rules (täiendavad)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8920" y="1092240"/>
          <a:ext cx="8456400" cy="272268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0560"/>
                <a:gridCol w="1692360"/>
                <a:gridCol w="169056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l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u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nt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_2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0, 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-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060} &gt;= {c040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_60.00.a, 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_3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 (NSFR), 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 (A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 (NSFR), 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0, 080 (A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{C60.00.a, r020, c010} &lt;&gt; "" THEN [{F32.04, r060, c030} + {F32.04, r080, c030}] &lt;&gt; ""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{F32.04, r060, c030} OR {F32.04, r080, c030} &lt;&gt; "" THEN {C60.00.a, r020, c010} &lt;&gt; "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_18.0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-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-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3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4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5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6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7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80} &lt;= 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c190} &lt;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Portaali funktsionaalsus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vastuvõtmin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valideerimin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Taksonoomia vastu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Filing rules vastu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Täiendavate valideerimisreeglite vastu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staatuste kuvamin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Vigaste aruannete veateadete kuvamin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visualiseerimin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sisestamine veebivormide kaudu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Andmete vastuvõtmine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XBRL faile tuleb vastu võtta samadel tingimustel kui XML fail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Allkirjastatud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Krüpteeritud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Õige periood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…</a:t>
            </a: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Abivahendid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Tool for Undertakings (T4U)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Frutiger 55 Roman"/>
                <a:hlinkClick r:id="rId1"/>
              </a:rPr>
              <a:t>http://t4u.eurofiling.info/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Programmikood GITHub-is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elle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 u="sng">
                <a:solidFill>
                  <a:srgbClr val="009999"/>
                </a:solidFill>
                <a:uFillTx/>
                <a:latin typeface="Frutiger 55 Roman"/>
                <a:hlinkClick r:id="rId2"/>
              </a:rPr>
              <a:t>http://arelle.org/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Lingid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 u="sng">
                <a:solidFill>
                  <a:srgbClr val="009999"/>
                </a:solidFill>
                <a:uFillTx/>
                <a:latin typeface="Frutiger 55 Roman"/>
                <a:hlinkClick r:id="rId1"/>
              </a:rPr>
              <a:t>https://www.eba.europa.eu/regulation-and-policy/supervisory-reporting/implementing-technical-standard-on-supervisory-reporting-data-point-model-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 u="sng">
                <a:solidFill>
                  <a:srgbClr val="4d4d4d"/>
                </a:solidFill>
                <a:uFillTx/>
                <a:latin typeface="Frutiger 55 Roman"/>
              </a:rPr>
              <a:t>https://eiopa.europa.eu/regulation-supervision/insurance/reporting-format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 u="sng">
                <a:solidFill>
                  <a:srgbClr val="4d4d4d"/>
                </a:solidFill>
                <a:uFillTx/>
                <a:latin typeface="Frutiger 55 Roman"/>
              </a:rPr>
              <a:t>https://eiopa.europa.eu/regulation-supervision/insurance/tool-for-undertakings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4d4d4d"/>
                </a:solidFill>
                <a:latin typeface="Frutiger 55 Roman"/>
              </a:rPr>
              <a:t>http://arelle.org/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 u="sng">
                <a:solidFill>
                  <a:srgbClr val="4d4d4d"/>
                </a:solidFill>
                <a:uFillTx/>
                <a:latin typeface="Frutiger 55 Roman"/>
              </a:rPr>
              <a:t>http://www.fujitsu.com/global/products/software/middleware/application-infrastructure/interstage/solutions/xbrl/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 u="sng">
                <a:solidFill>
                  <a:srgbClr val="4d4d4d"/>
                </a:solidFill>
                <a:uFillTx/>
                <a:latin typeface="Frutiger 55 Roman"/>
              </a:rPr>
              <a:t>http://www.xbrl.org/Specification/XBRL-2.1/REC-2003-12-31/XBRL-2.1-REC-2003-12-31+corrected-errata-2013-02-20.html</a:t>
            </a: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Küsimused?</a:t>
            </a: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	</a:t>
            </a:r>
            <a:endParaRPr b="1" lang="en-US" sz="36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8920" y="1625400"/>
            <a:ext cx="8456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2852280"/>
            <a:ext cx="561672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Tänan tähelepanu eest!</a:t>
            </a: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	</a:t>
            </a:r>
            <a:endParaRPr b="1" lang="en-US" sz="3600" spc="-1" strike="noStrike">
              <a:solidFill>
                <a:srgbClr val="333333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Mis on XBRL</a:t>
            </a:r>
            <a:r>
              <a:rPr b="1" lang="et-EE" sz="1800" spc="-1" strike="noStrike">
                <a:solidFill>
                  <a:srgbClr val="333333"/>
                </a:solidFill>
                <a:latin typeface="Frutiger 55 Roman"/>
              </a:rPr>
              <a:t>(eXtensible Business Reporting Language)</a:t>
            </a: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?</a:t>
            </a:r>
            <a:endParaRPr b="1" lang="en-US" sz="36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0600" y="906120"/>
            <a:ext cx="84564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XBRL on XML keelel baseeruv avatud standar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754280" y="1555920"/>
          <a:ext cx="537372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555920"/>
                    <a:ext cx="537372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8560" y="255600"/>
            <a:ext cx="846108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971640" y="255600"/>
          <a:ext cx="7448400" cy="62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5600"/>
                    <a:ext cx="744840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XBRL taksonoomiad</a:t>
            </a:r>
            <a:endParaRPr b="1" lang="en-US" sz="36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920" y="934920"/>
            <a:ext cx="8456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Aruannete skeemid, kus on määratud aruannete struktuur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Koosneva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Schema (XML skeem)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Label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Referenced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Presentation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Calculation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Definition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Formula Linkbas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333333"/>
                </a:solidFill>
                <a:latin typeface="Frutiger 55 Roman"/>
              </a:rPr>
              <a:t>XBRL taksonoomiad</a:t>
            </a:r>
            <a:endParaRPr b="1" lang="en-US" sz="36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920" y="934920"/>
            <a:ext cx="84564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EBA taksonoomia (pangandus)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EIOPA taksonoomia (kindlustus)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ESMA taksonoomia (väärtpaberi järelevalve)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Tulevikus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Erinevad versiooni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Toetama peab ka minevikus kehtinud versioone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333333"/>
                </a:solidFill>
                <a:latin typeface="Frutiger 55 Roman"/>
              </a:rPr>
              <a:t>XBRL</a:t>
            </a:r>
            <a:endParaRPr b="1" lang="en-US" sz="40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539640" y="795240"/>
            <a:ext cx="83343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Andmefakt XBRL-is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context id="c_10006_0"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entity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identifier scheme="http://www.fi.ee/subject-code"&gt;7670&lt;/xbrli:identifier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/xbrli:entity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period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instant&gt;2015-06-30&lt;/xbrli:instant&gt; 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/xbrli:period&gt; 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i:scenario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di:explicitMember dimension="eba_dim:BAS"&gt;eba_BA:x6&lt;/xbrldi:explicitMember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di:explicitMember dimension="eba_dim:MCY"&gt;eba_MC:x143&lt;/xbrldi:explicitMember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di:explicitMember dimension="eba_dim:APL"&gt;eba_PL:x4&lt;/xbrldi:explicitMember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xbrldi:explicitMember dimension="eba_dim:ALO"&gt;eba_IM:x1&lt;/xbrldi:explicitMember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	</a:t>
            </a: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/xbrli:scenario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/xbrli:context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4d4d4d"/>
                </a:solidFill>
                <a:latin typeface="Frutiger 55 Roman"/>
              </a:rPr>
              <a:t>&lt;eba:md106 contextRef="c_10006_0" decimals="2" unitRef="uEUR"&gt;468353.17&lt;/eba:md106&gt;</a:t>
            </a:r>
            <a:endParaRPr b="0" lang="en-US" sz="10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Data Point Model (DPM)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8920" y="1092240"/>
            <a:ext cx="845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4d4d4d"/>
                </a:solidFill>
                <a:latin typeface="Frutiger 55 Roman"/>
              </a:rPr>
              <a:t>Struktureeritud andmete esitamise viis, milles on kindlaks määratud äri mõisted ja seosed, samuti valideerimise reeglid</a:t>
            </a:r>
            <a:endParaRPr b="0" lang="en-US" sz="28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Taksonoomia loomiseks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  <a:p>
            <a:pPr lvl="1" marL="743040" indent="-285840">
              <a:spcBef>
                <a:spcPts val="601"/>
              </a:spcBef>
              <a:buClr>
                <a:srgbClr val="969696"/>
              </a:buClr>
              <a:buSzPct val="9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4d4d4d"/>
                </a:solidFill>
                <a:latin typeface="Frutiger 55 Roman"/>
              </a:rPr>
              <a:t>IT süsteemide loomiseks</a:t>
            </a:r>
            <a:endParaRPr b="0" lang="en-US" sz="2400" spc="-1" strike="noStrike">
              <a:solidFill>
                <a:srgbClr val="4d4d4d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Table Layout EBA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pic>
        <p:nvPicPr>
          <p:cNvPr id="103" name="Content Placeholder 6" descr=""/>
          <p:cNvPicPr/>
          <p:nvPr/>
        </p:nvPicPr>
        <p:blipFill>
          <a:blip r:embed="rId1"/>
          <a:stretch/>
        </p:blipFill>
        <p:spPr>
          <a:xfrm>
            <a:off x="628560" y="1092240"/>
            <a:ext cx="791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560" y="255600"/>
            <a:ext cx="846108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333333"/>
                </a:solidFill>
                <a:latin typeface="Frutiger 55 Roman"/>
              </a:rPr>
              <a:t>Table Layout EIOPA</a:t>
            </a:r>
            <a:endParaRPr b="1" lang="en-US" sz="4400" spc="-1" strike="noStrike">
              <a:solidFill>
                <a:srgbClr val="333333"/>
              </a:solidFill>
              <a:latin typeface="Frutiger 55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8440" y="1268280"/>
            <a:ext cx="8898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8:00:15Z</dcterms:created>
  <dc:creator>pixu</dc:creator>
  <dc:description/>
  <dc:language>en-US</dc:language>
  <cp:lastModifiedBy>Erkko ad. Kõrgema</cp:lastModifiedBy>
  <dcterms:modified xsi:type="dcterms:W3CDTF">2016-02-26T10:00:54Z</dcterms:modified>
  <cp:revision>127</cp:revision>
  <dc:subject/>
  <dc:title>Slide 1</dc:title>
</cp:coreProperties>
</file>